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625-DED1-439E-A051-0B546D5B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3FF-468C-4773-991A-918BAB06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417-1BEB-42D7-9200-03F9545F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A81-AFF5-4CE2-A95D-98650127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FBC-0C57-4567-BC5A-59001C26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8B5-8299-43A4-9F52-8412EA7D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504-3751-45A0-94D3-69097C4E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487-8A6C-47CA-98D4-B6F302F3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9AF-A84C-42AF-8A2E-AB5EB644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BC4-2C02-4EA9-92DE-696C093B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645-0DD1-4A7A-967C-F07209ED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ED5-D654-4EDA-99E7-345F962C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49C9-A326-402C-B457-5E0B25918D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seat anywhe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assigned seats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r. B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teaching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at Hal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lor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Users\Bair\Downloads\dsc_5237.jpg"/>
          <p:cNvPicPr/>
          <p:nvPr/>
        </p:nvPicPr>
        <p:blipFill>
          <a:blip r:embed="rId1"/>
          <a:srcRect l="15191" t="6224" r="5056" b="0"/>
          <a:stretch/>
        </p:blipFill>
        <p:spPr>
          <a:xfrm>
            <a:off x="3492360" y="3789360"/>
            <a:ext cx="3621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bout 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Overview About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hroom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of class ppt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alking when I am t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instructions dur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wikispaces.com &amp; sign up for an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ccount name MUST be your first name and last name with no spaces, and must be lower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ason Bair = jasonb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taken, add a number to the end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your login name and password on the paper on the littl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irst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Jason Bair</cp:lastModifiedBy>
  <dcterms:modified xsi:type="dcterms:W3CDTF">2011-08-19T16:38:46Z</dcterms:modified>
  <cp:revision>573</cp:revision>
  <dc:subject/>
  <dc:title>TITLE</dc:title>
</cp:coreProperties>
</file>